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070-8480-438F-B218-E5D2BE4A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261-8DC5-48B4-ADE5-658DF20B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8F2-5ECA-4DD9-A56F-53EF5AF3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874-0DFC-4E00-99B0-8EB23343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0D1-FE1D-458C-975C-EC7A7B52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ADD-B4A3-415B-8729-B280B74C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FAE-9C7B-4B01-8C46-BC79E235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B1E-DE9D-49DF-A5BA-CABC9359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C87-AF9F-48D8-8EC2-F1D033BE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441-B9E5-47E6-8ABA-47AFC50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492-6E14-4C04-8585-C60C9715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5C4-59E9-446A-8D04-4B8DA74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B5C6-0C62-4FC7-8E23-C5790539D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5624" t="35418" r="46876" b="30212"/>
          <a:stretch/>
        </p:blipFill>
        <p:spPr>
          <a:xfrm>
            <a:off x="1752480" y="1752480"/>
            <a:ext cx="5486400" cy="3772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1850400" y="91440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CREDIT CARDS WORK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15624" t="35418" r="46876" b="30212"/>
          <a:stretch/>
        </p:blipFill>
        <p:spPr>
          <a:xfrm>
            <a:off x="0" y="0"/>
            <a:ext cx="2112840" cy="1452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d kredit merupak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atu kaedah pembayaran yang membolehkan anda membeli barang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au mendapatkan perkhidmatan tanpa menggunakan wang tunai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abila anda menggunakan kredit kad, pengeluar kad kredit akan membayar kepada peniaga terlebih dahulu bagi pihak anda dan kemudiannya meminta bayaran daripada anda dalam bentuk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penyata bulan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2285280" y="38088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CREDIT CARDS WORK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ad Kredit juga di kenali sebagai “Plastic Money” tapi dalam bentuk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hutang atau Kredi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ngguna perlu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memohon kepada sesebuah bank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ngeluar untuk memiliki Kad Kred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Kelulusan bank adalah bergantung kepada pendapata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ngguna sebulan, liabiliti pengguna dan sudah tentu kemampuan pengguna untuk membayar balik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mandangkan Kad Kredit adalah Kad Hutang maka setiap kad diberi 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Had Limit tertentu atau Had Penggunaa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15624" t="35418" r="46876" b="30212"/>
          <a:stretch/>
        </p:blipFill>
        <p:spPr>
          <a:xfrm>
            <a:off x="0" y="0"/>
            <a:ext cx="2112840" cy="1452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50" name="TextBox 6"/>
          <p:cNvSpPr/>
          <p:nvPr/>
        </p:nvSpPr>
        <p:spPr>
          <a:xfrm>
            <a:off x="2285280" y="38088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CREDIT CARDS WORK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tiap penggunaan dari Kad Kredit akan dikenakan interes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ra pengiraan interest adalah berdasarkan Kadar Interest Berkal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(periodic interest rate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ke atas baki akaun penggun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adar berkala di kira dengan membahagikan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nual Percentage Rate (APR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ngan jumlah bilangan bil setahun, pada kebiasaannya 12 bula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adi untuk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P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18% ditukar kepada kadar bertempoh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(Period rate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dalah 1.5%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15624" t="35418" r="46876" b="30212"/>
          <a:stretch/>
        </p:blipFill>
        <p:spPr>
          <a:xfrm>
            <a:off x="0" y="0"/>
            <a:ext cx="2112840" cy="1452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54" name="TextBox 6"/>
          <p:cNvSpPr/>
          <p:nvPr/>
        </p:nvSpPr>
        <p:spPr>
          <a:xfrm>
            <a:off x="2285280" y="38088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CREDIT CARDS WORK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1828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bih mudah,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Setiap penggunaan kad pengguna akan dikenakan interest biasanya pada kadar 1.5 % sebula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au 18% setahun (1.5% x 12 bulan) keatas baki akaun pengguna dalam satu-satu bul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di,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sekiranya pengguna membayar penuh terhadap jumla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ang telah digunakan dalam bulan itu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maka tiada caj atau interest di kenak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etapi  sekiranya pengguna hanya membayar jumlah minimum daripada jumlah penggunaan, maka jumlah baki yang tidak dilangsaikan akan di kenakan intere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Sekiranya pengguna hanya membayar jumlah minium setiap bula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dah tentula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berganda-ganda interest yang perlu dibaya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pada pihak bank setiap bul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nya akan berterusan dari bulan kebulan, tahun ke tahun bahkan ada yang dah pencen hutang kredit kad pun belum habis baya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5624" t="35418" r="46876" b="30212"/>
          <a:stretch/>
        </p:blipFill>
        <p:spPr>
          <a:xfrm>
            <a:off x="0" y="0"/>
            <a:ext cx="2112840" cy="1452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58" name="TextBox 6"/>
          <p:cNvSpPr/>
          <p:nvPr/>
        </p:nvSpPr>
        <p:spPr>
          <a:xfrm>
            <a:off x="2285280" y="38088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CREDIT CARDS WORK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8:23:38Z</dcterms:created>
  <dc:creator>emah</dc:creator>
  <dc:description/>
  <dc:language>en-US</dc:language>
  <cp:lastModifiedBy>emah</cp:lastModifiedBy>
  <dcterms:modified xsi:type="dcterms:W3CDTF">2010-08-17T08:51:10Z</dcterms:modified>
  <cp:revision>6</cp:revision>
  <dc:subject/>
  <dc:title>Slide 1</dc:title>
</cp:coreProperties>
</file>